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92E0-AB3D-4ABF-98AC-92AEF1413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8A72-ACD1-4AA0-B0A7-E5922014A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09AF-E84C-4382-8E88-04EE36988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55C4-0700-44CA-B23F-25069EA436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8D85-53E9-4C06-88DE-A4277144D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E63F-FEA0-478C-816C-752F0E6A4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3C94-BA45-401E-BB8C-79D628546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1B04-7BA7-40AC-B766-54E80D6CF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24DD-5653-4E29-93BB-294E3A9FD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AD76-7AB6-41BE-902F-6256281A6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6AA9-C68D-4474-8901-B059CFD15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E612-EF96-401A-A1DE-C4A887946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C95-296F-4A29-ABDE-F608291C93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10BD-0912-47D7-8DA8-A65F23E167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Numb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DC4-7548-4E18-A34D-139B3C93EC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Learning Goal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3000"/>
          </a:bodyPr>
          <a:p>
            <a:pPr marL="32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b42478"/>
                </a:solidFill>
                <a:latin typeface="Tahoma"/>
                <a:ea typeface="Times New Roman"/>
              </a:rPr>
              <a:t>-To help teachers to realize that they have control of how things work in their class.  As teachers, we decide how things are going to work.</a:t>
            </a: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en-CA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-</a:t>
            </a:r>
            <a:r>
              <a:rPr b="0" lang="en-CA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To give teachers an idea of some of the ways that you can work things in a classroom.  Ideas like giving students time to talk and discuss and making your class a problem-centered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-There are other ways to work with struggling students other than showing them a step-by-step procedure for how to solve problems.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352E-2415-4BE9-A3D6-20D3A04B67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77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Who Am I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ACC-7D9D-49F1-B615-A78263911A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7720" y="2209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Teamwor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610-A6C2-4C55-AE67-BACE996D3B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04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7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Building with Linking Cubes, petcet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7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00D-C119-4DF6-BA17-A2C2BB025C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15998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Let’s T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0C4-A1BE-4FDA-AC3E-EB2ECE9004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04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Exit P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2T15:35:38Z</dcterms:modified>
  <cp:revision>9</cp:revision>
  <dc:subject/>
  <dc:title>&lt;Title&gt;</dc:title>
</cp:coreProperties>
</file>